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B9A3-AF2D-411E-A97B-C667FCBAF6AB}"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CF0D-B4A3-41E7-ADCD-2B034E9875A9}"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BB580E-A75D-4B46-843C-F12764B65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25EFB-9C38-4B23-B416-59E8B80D8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3751E-9A1F-486E-AE3E-BC7AEB3BD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7F396-F52D-4B79-B7D7-86D3579F6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619EC-EC6A-4D6B-BE7A-C432E6F15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C7CEF-4223-416D-AD11-F3FB45910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3EDB4-4BEB-4612-9694-EA36FADF6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D759A-CD5C-44B2-A961-986ECDE3C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3BC16-0FBC-44CB-956F-69E54A00F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F7DD5-0C58-439D-96D5-CE7FA1F69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8C003-8466-4193-A8DD-2492701A2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88704-8200-4B52-99BE-8A8D6B2CD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E19B4-3D89-4C6F-A3BD-AEBEE30C031B}"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6. HAFTA</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OMPOZİSYONDA ANLATIM ŞEKİLLE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i="1" lang="tr-TR" sz="2400" spc="-1" strike="noStrike">
                <a:solidFill>
                  <a:srgbClr val="000000"/>
                </a:solidFill>
                <a:latin typeface="Calibri"/>
              </a:rPr>
              <a:t>Yatağın altında yeşil, tahtadan bir sandık duruyordu. Onu açtım. Az daha sevincimden haykıracaktım. Annemin bir hafta önce İstanbul'dan gönderdiği hediyeler içinde çıkan kaşağı pırıl pırıl parlıyordu. Hemen kaptım. Tosun'un yanına koştum. Karnına sürtmek istedim. Rahat durmuyordu. Galiba acıtıyor, dedim. Gümüş gibi parlayan bu güzel kaşağının dişlerine baktım. Çok keskin çok sivriydi. Biraz köreltmek için duvarın taşlarına sürtmeye başladım. Dişleri bozulunca, tekrar denedim. Atların hiçbiri durmuyordu. Kızdım. On adım ilerideki çeşmeye koştum…</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svir Etme (Tasvir Yoluyla Anlatım)(Betimleyici Anlatım)</a:t>
            </a:r>
            <a:br>
              <a:rPr sz="2400"/>
            </a:br>
            <a:r>
              <a:rPr b="0" lang="tr-TR" sz="2400" spc="-1" strike="noStrike">
                <a:solidFill>
                  <a:srgbClr val="000000"/>
                </a:solidFill>
                <a:latin typeface="Calibri"/>
              </a:rPr>
              <a:t>	</a:t>
            </a:r>
            <a:r>
              <a:rPr b="0" lang="tr-TR" sz="2400" spc="-1" strike="noStrike">
                <a:solidFill>
                  <a:srgbClr val="000000"/>
                </a:solidFill>
                <a:latin typeface="Calibri"/>
              </a:rPr>
              <a:t>Tasvir, herhangi bir varlığın rengini, kokusunu, tadını, görünüşünü özelliklerini anlatma ve canlandırma demektir. Yani tasvir, sözle resim yapma sanatıdır. Varlıkları okuyucunun gözünde canlandırmak istediğimizde tasvir anlatımını seçeriz. Bu bakımdan başlı başına bir anlatım yolu olmaktan çok, hikâye etme veya açıklama yolu ile kaleme alınan eserlerde bir bölüm oluşturu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8000" y="549360"/>
            <a:ext cx="81072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0000"/>
                </a:solidFill>
                <a:latin typeface="Calibri"/>
              </a:rPr>
              <a:t>	</a:t>
            </a:r>
            <a:r>
              <a:rPr b="1" i="1" lang="tr-TR" sz="2200" spc="-1" strike="noStrike">
                <a:solidFill>
                  <a:srgbClr val="ff0000"/>
                </a:solidFill>
                <a:latin typeface="Calibri"/>
              </a:rPr>
              <a:t>ÖRNEK:</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Eski bir taş köprü geçildikten sonra fakir mahallelere giriliyor ve sefalet, bütün dehşeti ve çirkinliğiyle başlıyordu. Ortalarından akan çirkin sularında yarı çıplak çocuklarla çamurdan köpekler, eğri büğrü sokaklar… Tezekten, çamurdan yapılmış yarı yarıya toprağa gömülmüş penceresiz kulübele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Çoban Mehmet ile evlenecek olan Zehra, insanın rüyasına girse korkutacak kadar acayip bir mahlûk, bir nevi delidir. Kına renginde çalı gibi sert, karmakarışık saçları, balmumu gibi renksiz yüzünde yine o renkte çilleri, daracık alnı ile bir hizada korkunç gözleri vardır.” </a:t>
            </a:r>
            <a:endParaRPr b="0" lang="en-US" sz="22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Reşat Nuri Güntekin , Çalıkuşu)</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2400" y="685800"/>
            <a:ext cx="830736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onuşmalı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ki veya daha fazla kimsenin, bir konu üzerinde, karşılıklı konuşturulmasına, konuşmalı anlatım denir. Başta tiyatro eserleri olmak üzere, roman, hikâye, mülakat, röportaj, sohbet, açık oturum türlerinde bu anlatım biçimine çok sık rastlanı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0000"/>
                </a:solidFill>
                <a:latin typeface="Calibri"/>
              </a:rPr>
              <a:t>	</a:t>
            </a:r>
            <a:r>
              <a:rPr b="1" i="1" lang="tr-TR" sz="1800" spc="-1" strike="noStrike">
                <a:solidFill>
                  <a:srgbClr val="ff0000"/>
                </a:solidFill>
                <a:latin typeface="Calibri"/>
              </a:rPr>
              <a:t>ÖRN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	</a:t>
            </a:r>
            <a:r>
              <a:rPr b="0" i="1" lang="tr-TR" sz="1800" spc="-1" strike="noStrike">
                <a:solidFill>
                  <a:srgbClr val="000000"/>
                </a:solidFill>
                <a:latin typeface="Calibri"/>
              </a:rPr>
              <a:t>Tekrar s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öyle yavrum, o roman ne diyo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Genç kız büyük gözlerini kaldırdı. Kitabı dizlerine indirdi. Nazik bir şive ile“Büyükanneciğim, Fransızca bir roman iste…” dedi. Lakin büyük nine merak ediyordu, mutlaka anlamak istiy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dı ne?</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Desenchant…</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Ne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evinçten, saadetten mahrum kadınlar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Onlar kimmiş?</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Biz… Türk kadınları…</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Ömer Seyfettin, Bahar ve Kelebekle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Özlü Anlatım</a:t>
            </a:r>
            <a:br>
              <a:rPr sz="2400"/>
            </a:br>
            <a:r>
              <a:rPr b="0" lang="tr-TR" sz="2400" spc="-1" strike="noStrike">
                <a:solidFill>
                  <a:srgbClr val="000000"/>
                </a:solidFill>
                <a:latin typeface="Calibri"/>
              </a:rPr>
              <a:t>	</a:t>
            </a:r>
            <a:r>
              <a:rPr b="0" lang="tr-TR" sz="2400" spc="-1" strike="noStrike">
                <a:solidFill>
                  <a:srgbClr val="000000"/>
                </a:solidFill>
                <a:latin typeface="Calibri"/>
              </a:rPr>
              <a:t>Eskiden îcâz adını verdikleri özlü anlatım, az sözle çok anlam ifade etmektir. Bütün atasözleri, vecizeler (özdeyişler), vecize niteliğindeki manzum parçalar özlü anlatımla meydana getirilir. Özlü anlatım okuyucu ve dinleyici üzerinde, çabuk ve kesin etki bırak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Vakit nakit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İşleyen demir ışılda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Damlaya damlaya göl olu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lk içinde muteber bir nesne yok devlet gib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Olmaya devlet cihanda bir nefes sıhhat gibi (Kanun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yatta en hakiki mürşit ilimdir. (Atatür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Manzum Anlatım</a:t>
            </a:r>
            <a:br>
              <a:rPr sz="2400"/>
            </a:br>
            <a:r>
              <a:rPr b="0" lang="tr-TR" sz="2400" spc="-1" strike="noStrike">
                <a:solidFill>
                  <a:srgbClr val="000000"/>
                </a:solidFill>
                <a:latin typeface="Calibri"/>
              </a:rPr>
              <a:t>	</a:t>
            </a:r>
            <a:r>
              <a:rPr b="0" lang="tr-TR" sz="2400" spc="-1" strike="noStrike">
                <a:solidFill>
                  <a:srgbClr val="000000"/>
                </a:solidFill>
                <a:latin typeface="Calibri"/>
              </a:rPr>
              <a:t>Bir kompozisyonda ele alınan konunun, ölçülü, kafiyeli veya serbest mısralarla anlatımına manzum anlatım denir. Bütün şiirler bu anlatım biçimi ile yazılır. Ayrıca tiyatro, hikâye, destanlar ve masal türlerinde de manzum anlatım biçiminin kullanıldığı sık sık görülü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22040" y="685800"/>
            <a:ext cx="8839080" cy="599112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f0000"/>
                </a:solidFill>
                <a:latin typeface="Calibri"/>
              </a:rPr>
              <a:t>ÖRNEK:</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ÜFE</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eş on gün oldu ki, mu'tâda inkıyâd ile ben</a:t>
            </a:r>
            <a:br>
              <a:rPr sz="1700"/>
            </a:br>
            <a:r>
              <a:rPr b="0" lang="tr-TR" sz="1700" spc="-1" strike="noStrike">
                <a:solidFill>
                  <a:srgbClr val="000000"/>
                </a:solidFill>
                <a:latin typeface="Calibri"/>
              </a:rPr>
              <a:t>Sabahleyin çıkıvermiştim evden erkenden.</a:t>
            </a:r>
            <a:br>
              <a:rPr sz="1700"/>
            </a:br>
            <a:br>
              <a:rPr sz="1700"/>
            </a:br>
            <a:r>
              <a:rPr b="0" lang="tr-TR" sz="1700" spc="-1" strike="noStrike">
                <a:solidFill>
                  <a:srgbClr val="000000"/>
                </a:solidFill>
                <a:latin typeface="Calibri"/>
              </a:rPr>
              <a:t>Bizim mahalle de İstanbul'un kenârı demek:</a:t>
            </a:r>
            <a:br>
              <a:rPr sz="1700"/>
            </a:br>
            <a:r>
              <a:rPr b="0" lang="tr-TR" sz="1700" spc="-1" strike="noStrike">
                <a:solidFill>
                  <a:srgbClr val="000000"/>
                </a:solidFill>
                <a:latin typeface="Calibri"/>
              </a:rPr>
              <a:t>Sokaklarında gezilmez ki yüzme bilmiyerek!</a:t>
            </a:r>
            <a:br>
              <a:rPr sz="1700"/>
            </a:br>
            <a:br>
              <a:rPr sz="1700"/>
            </a:br>
            <a:r>
              <a:rPr b="0" lang="tr-TR" sz="1700" spc="-1" strike="noStrike">
                <a:solidFill>
                  <a:srgbClr val="000000"/>
                </a:solidFill>
                <a:latin typeface="Calibri"/>
              </a:rPr>
              <a:t>Adım başında derin bir buhayre dalgalanır,</a:t>
            </a:r>
            <a:br>
              <a:rPr sz="1700"/>
            </a:br>
            <a:r>
              <a:rPr b="0" lang="tr-TR" sz="1700" spc="-1" strike="noStrike">
                <a:solidFill>
                  <a:srgbClr val="000000"/>
                </a:solidFill>
                <a:latin typeface="Calibri"/>
              </a:rPr>
              <a:t>Sular karardı mı, artık gelen gelir dayanır.</a:t>
            </a:r>
            <a:br>
              <a:rPr sz="1700"/>
            </a:br>
            <a:br>
              <a:rPr sz="1700"/>
            </a:br>
            <a:r>
              <a:rPr b="0" lang="tr-TR" sz="1700" spc="-1" strike="noStrike">
                <a:solidFill>
                  <a:srgbClr val="000000"/>
                </a:solidFill>
                <a:latin typeface="Calibri"/>
              </a:rPr>
              <a:t>Bir elde olmalı kandil, bir elde iskandil,</a:t>
            </a:r>
            <a:br>
              <a:rPr sz="1700"/>
            </a:br>
            <a:r>
              <a:rPr b="0" lang="tr-TR" sz="1700" spc="-1" strike="noStrike">
                <a:solidFill>
                  <a:srgbClr val="000000"/>
                </a:solidFill>
                <a:latin typeface="Calibri"/>
              </a:rPr>
              <a:t>Selâmetin yolu insan için bu, başka değil!</a:t>
            </a:r>
            <a:br>
              <a:rPr sz="1700"/>
            </a:br>
            <a:br>
              <a:rPr sz="1700"/>
            </a:br>
            <a:r>
              <a:rPr b="0" lang="tr-TR" sz="1700" spc="-1" strike="noStrike">
                <a:solidFill>
                  <a:srgbClr val="000000"/>
                </a:solidFill>
                <a:latin typeface="Calibri"/>
              </a:rPr>
              <a:t>Elimde bir koca değnek, onunla yoklayarak,</a:t>
            </a:r>
            <a:br>
              <a:rPr sz="1700"/>
            </a:br>
            <a:r>
              <a:rPr b="0" lang="tr-TR" sz="1700" spc="-1" strike="noStrike">
                <a:solidFill>
                  <a:srgbClr val="000000"/>
                </a:solidFill>
                <a:latin typeface="Calibri"/>
              </a:rPr>
              <a:t>Önüm adaysa basıp, yok, denizse atlayarak,</a:t>
            </a:r>
            <a:br>
              <a:rPr sz="1700"/>
            </a:br>
            <a:br>
              <a:rPr sz="1700"/>
            </a:br>
            <a:r>
              <a:rPr b="0" lang="tr-TR" sz="1700" spc="-1" strike="noStrike">
                <a:solidFill>
                  <a:srgbClr val="000000"/>
                </a:solidFill>
                <a:latin typeface="Calibri"/>
              </a:rPr>
              <a:t>- Ayakta durmaya elbirliğiyle gayret eden,</a:t>
            </a:r>
            <a:br>
              <a:rPr sz="1700"/>
            </a:br>
            <a:r>
              <a:rPr b="0" lang="tr-TR" sz="1700" spc="-1" strike="noStrike">
                <a:solidFill>
                  <a:srgbClr val="000000"/>
                </a:solidFill>
                <a:latin typeface="Calibri"/>
              </a:rPr>
              <a:t>Lisân-ı hâl ile amma rükûa niyyet eden -</a:t>
            </a:r>
            <a:br>
              <a:rPr sz="1700"/>
            </a:b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Mehmet Akif Ersoy)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libri"/>
              </a:rPr>
              <a:t>	</a:t>
            </a:r>
            <a:r>
              <a:rPr b="0" lang="tr-TR"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izahi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yatın güldürücü yönünün ortaya çıkarıldığı metinlerde kullanılan anlatım türüdür. Mizahi anlatım tiyatro, roman, hikaye, şiir, köşe yazısı metinlerinde; fıkra ve karikatürlerde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Mizahi anlatım güldürü öğesi, ses hareket, konuşma ve görünüş taklitleriyle sağlanır. En kaba şakadan en ince espriye kadar bütün mizah örnekleri, birbiri ile uyum içindeki olaylar arasındaki çelişkinin birdenbire ortaya çıkarılmasına dayanır.  Mizahın olduğu yerde normal olandan sapma ve bu durumun abartılması söz konusud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ompozisyonda duygu ve düşüncelerin, görünen ve bilinenlerin, dilek ve isteklerin tek bir anlatım biçimiyle anlatılmadığını görürüz. Yazılı ve sözlü kompozisyonlarda anlatımlar değişik yollardan biri veya birkaçıyla yapılır. Kompozisyonda en fazla başvurulan anlatım şekilleri şunlardır:</a:t>
            </a:r>
            <a:br>
              <a:rPr sz="2400"/>
            </a:b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ff0000"/>
                </a:solidFill>
                <a:latin typeface="Calibri"/>
              </a:rPr>
              <a:t>ÖRNEK:</a:t>
            </a: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000000"/>
                </a:solidFill>
                <a:latin typeface="Calibri"/>
              </a:rPr>
              <a:t>İmparatorluk dönemi şairlerinin en esprililerinden bir olan şair Haşmet’in kendine göre aptalca işler yapanların adını kaydettiği gizli bir defteri varmış. Kim ahmakça, akılsızca bir iş yapsa adını oraya işlermiş. Haşmet’in böyle bir defter tuttuğundan haberdar olan padişah III. Mustafa bir yolunu bulup bu defteri elde etmiş. Padişah zevk ve merakla defteri karıştırırken aptalca işler yapanların içinde kendi adına rastlamış. Hemen şair Haşmet!i huzuruna çağırıp:</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u ne küstahlık! Sen nasıl oluyor da benim adımı aptallar listesine kaydediyorsun?</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Efendimiz sakin olunuz, izah edeyim. Siz geçenlerde baş seyise yüklü bir para vererek cins bir Arap atı almaya gönderdiniz. O kadar parayla Arabistan’a gönderilen kimse artık geri döner mi?</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Peki, ya ger dönerse?</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olayı var efendimiz, sizin adınızı siler onunkini yazarız…</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360" y="285480"/>
            <a:ext cx="8286840" cy="63910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omic Sans MS"/>
              </a:rPr>
              <a:t> </a:t>
            </a:r>
            <a:r>
              <a:rPr b="0" lang="tr-TR" sz="2400" spc="-1" strike="noStrike">
                <a:solidFill>
                  <a:srgbClr val="ff0000"/>
                </a:solidFill>
                <a:latin typeface="Comic Sans MS"/>
              </a:rPr>
              <a:t>	</a:t>
            </a:r>
            <a:r>
              <a:rPr b="0" lang="tr-TR" sz="2400" spc="-1" strike="noStrike">
                <a:solidFill>
                  <a:srgbClr val="ff0000"/>
                </a:solidFill>
                <a:latin typeface="Calibri"/>
              </a:rPr>
              <a:t>Destansı (Epik )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rihi olayların ve kişilerin olağanüstü boyutlar içinde anlatıldığı metinlerde görülen anlatım türüdür. Destansı anlatımda konu ne olursa olsun konunun önemi ve büyüklüğü abartılarak vurgulanır. Olağanüstü öğelere yer verilmesi de destansı anlatımın tipik özelliği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estansı anlatımın görüldüğü en tipik metinler destanlarıdır; ancak bu anlatımdan şiir, roman, hikaye, tiyatro gibi metinlerde de yararlanıl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2040" y="285480"/>
            <a:ext cx="8839080" cy="639108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Çanakkale Şehitlerine</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u Boğaz harbi nedir? Var mı ki dünyâda eşi? </a:t>
            </a:r>
            <a:br>
              <a:rPr sz="1600"/>
            </a:br>
            <a:r>
              <a:rPr b="0" lang="tr-TR" sz="1600" spc="-1" strike="noStrike">
                <a:solidFill>
                  <a:srgbClr val="000000"/>
                </a:solidFill>
                <a:latin typeface="Calibri"/>
              </a:rPr>
              <a:t>En kesif orduların yükleniyor dördü beşi. </a:t>
            </a:r>
            <a:br>
              <a:rPr sz="1600"/>
            </a:br>
            <a:r>
              <a:rPr b="0" lang="tr-TR" sz="1600" spc="-1" strike="noStrike">
                <a:solidFill>
                  <a:srgbClr val="000000"/>
                </a:solidFill>
                <a:latin typeface="Calibri"/>
              </a:rPr>
              <a:t>-Tepeden yol bularak geçmek için Marmara'ya- </a:t>
            </a:r>
            <a:br>
              <a:rPr sz="1600"/>
            </a:br>
            <a:r>
              <a:rPr b="0" lang="tr-TR" sz="1600" spc="-1" strike="noStrike">
                <a:solidFill>
                  <a:srgbClr val="000000"/>
                </a:solidFill>
                <a:latin typeface="Calibri"/>
              </a:rPr>
              <a:t>Kaç donanmayla sarılmış ufacık bir karaya. </a:t>
            </a:r>
            <a:br>
              <a:rPr sz="1600"/>
            </a:br>
            <a:r>
              <a:rPr b="0" lang="tr-TR" sz="1600" spc="-1" strike="noStrike">
                <a:solidFill>
                  <a:srgbClr val="000000"/>
                </a:solidFill>
                <a:latin typeface="Calibri"/>
              </a:rPr>
              <a:t>Ne hayâsızca tehaşşüd ki ufuklar kapalı! </a:t>
            </a:r>
            <a:br>
              <a:rPr sz="1600"/>
            </a:br>
            <a:r>
              <a:rPr b="0" lang="tr-TR" sz="1600" spc="-1" strike="noStrike">
                <a:solidFill>
                  <a:srgbClr val="000000"/>
                </a:solidFill>
                <a:latin typeface="Calibri"/>
              </a:rPr>
              <a:t>Nerde-gösterdiği vahşetle 'bu: bir Avrupalı' </a:t>
            </a:r>
            <a:br>
              <a:rPr sz="1600"/>
            </a:br>
            <a:r>
              <a:rPr b="0" lang="tr-TR" sz="1600" spc="-1" strike="noStrike">
                <a:solidFill>
                  <a:srgbClr val="000000"/>
                </a:solidFill>
                <a:latin typeface="Calibri"/>
              </a:rPr>
              <a:t>Dedirir-Yırtıcı, his yoksulu, sırtlan kümesi, </a:t>
            </a:r>
            <a:br>
              <a:rPr sz="1600"/>
            </a:br>
            <a:r>
              <a:rPr b="0" lang="tr-TR" sz="1600" spc="-1" strike="noStrike">
                <a:solidFill>
                  <a:srgbClr val="000000"/>
                </a:solidFill>
                <a:latin typeface="Calibri"/>
              </a:rPr>
              <a:t>Varsa gelmiş, açılıp mahbesi, yâhud kafesi! </a:t>
            </a:r>
            <a:br>
              <a:rPr sz="1600"/>
            </a:br>
            <a:r>
              <a:rPr b="0" lang="tr-TR" sz="1600" spc="-1" strike="noStrike">
                <a:solidFill>
                  <a:srgbClr val="000000"/>
                </a:solidFill>
                <a:latin typeface="Calibri"/>
              </a:rPr>
              <a:t>Eski Dünyâ, yeni Dünyâ, bütün akvâm-ı beşer, </a:t>
            </a:r>
            <a:br>
              <a:rPr sz="1600"/>
            </a:br>
            <a:r>
              <a:rPr b="0" lang="tr-TR" sz="1600" spc="-1" strike="noStrike">
                <a:solidFill>
                  <a:srgbClr val="000000"/>
                </a:solidFill>
                <a:latin typeface="Calibri"/>
              </a:rPr>
              <a:t>Kaynıyor kum gibi, mahşer mi, hakikat mahşer. </a:t>
            </a:r>
            <a:br>
              <a:rPr sz="1600"/>
            </a:br>
            <a:r>
              <a:rPr b="0" lang="tr-TR" sz="1600" spc="-1" strike="noStrike">
                <a:solidFill>
                  <a:srgbClr val="000000"/>
                </a:solidFill>
                <a:latin typeface="Calibri"/>
              </a:rPr>
              <a:t>Yedi iklimi cihânın duruyor karşında, </a:t>
            </a:r>
            <a:br>
              <a:rPr sz="1600"/>
            </a:br>
            <a:r>
              <a:rPr b="0" lang="tr-TR" sz="1600" spc="-1" strike="noStrike">
                <a:solidFill>
                  <a:srgbClr val="000000"/>
                </a:solidFill>
                <a:latin typeface="Calibri"/>
              </a:rPr>
              <a:t>Avusturalya'yla beraber bakıyorsun: Kanada! </a:t>
            </a:r>
            <a:br>
              <a:rPr sz="1600"/>
            </a:br>
            <a:r>
              <a:rPr b="0" lang="tr-TR" sz="1600" spc="-1" strike="noStrike">
                <a:solidFill>
                  <a:srgbClr val="000000"/>
                </a:solidFill>
                <a:latin typeface="Calibri"/>
              </a:rPr>
              <a:t>Çehreler başka, lisanlar, deriler rengârenk: </a:t>
            </a:r>
            <a:br>
              <a:rPr sz="1600"/>
            </a:br>
            <a:r>
              <a:rPr b="0" lang="tr-TR" sz="1600" spc="-1" strike="noStrike">
                <a:solidFill>
                  <a:srgbClr val="000000"/>
                </a:solidFill>
                <a:latin typeface="Calibri"/>
              </a:rPr>
              <a:t>Sâde bir hâdise var ortada: Vahşetler denk. </a:t>
            </a:r>
            <a:br>
              <a:rPr sz="1600"/>
            </a:br>
            <a:r>
              <a:rPr b="0" lang="tr-TR" sz="1600" spc="-1" strike="noStrike">
                <a:solidFill>
                  <a:srgbClr val="000000"/>
                </a:solidFill>
                <a:latin typeface="Calibri"/>
              </a:rPr>
              <a:t>Kimi Hindû, kimi yamyam, kimi bilmem ne belâ... </a:t>
            </a:r>
            <a:br>
              <a:rPr sz="1600"/>
            </a:br>
            <a:r>
              <a:rPr b="0" lang="tr-TR" sz="1600" spc="-1" strike="noStrike">
                <a:solidFill>
                  <a:srgbClr val="000000"/>
                </a:solidFill>
                <a:latin typeface="Calibri"/>
              </a:rPr>
              <a:t>Hani, tâuna da züldür bu rezil istilâ! </a:t>
            </a:r>
            <a:br>
              <a:rPr sz="1600"/>
            </a:br>
            <a:r>
              <a:rPr b="0" lang="tr-TR" sz="1600" spc="-1" strike="noStrike">
                <a:solidFill>
                  <a:srgbClr val="000000"/>
                </a:solidFill>
                <a:latin typeface="Calibri"/>
              </a:rPr>
              <a:t>Ah o yirminci asır yok mu, o mahlûk-i asil, </a:t>
            </a:r>
            <a:br>
              <a:rPr sz="1600"/>
            </a:br>
            <a:r>
              <a:rPr b="0" lang="tr-TR" sz="1600" spc="-1" strike="noStrike">
                <a:solidFill>
                  <a:srgbClr val="000000"/>
                </a:solidFill>
                <a:latin typeface="Calibri"/>
              </a:rPr>
              <a:t>Ne kadar gözdesi mevcûd ise hakkıyle, sefil, </a:t>
            </a:r>
            <a:br>
              <a:rPr sz="1600"/>
            </a:br>
            <a:r>
              <a:rPr b="0" lang="tr-TR" sz="1600" spc="-1" strike="noStrike">
                <a:solidFill>
                  <a:srgbClr val="000000"/>
                </a:solidFill>
                <a:latin typeface="Calibri"/>
              </a:rPr>
              <a:t>Kustu Mehmedciğin aylarca durup karşısına; </a:t>
            </a:r>
            <a:br>
              <a:rPr sz="1600"/>
            </a:br>
            <a:r>
              <a:rPr b="0" lang="tr-TR" sz="1600" spc="-1" strike="noStrike">
                <a:solidFill>
                  <a:srgbClr val="000000"/>
                </a:solidFill>
                <a:latin typeface="Calibri"/>
              </a:rPr>
              <a:t>Döktü karnındaki esrârı hayâsızcasına. </a:t>
            </a:r>
            <a:br>
              <a:rPr sz="1600"/>
            </a:br>
            <a:r>
              <a:rPr b="0" lang="tr-TR" sz="1600" spc="-1" strike="noStrike">
                <a:solidFill>
                  <a:srgbClr val="000000"/>
                </a:solidFill>
                <a:latin typeface="Calibri"/>
              </a:rPr>
              <a:t>Maske yırtılmasa hâlâ bize âfetti o yüz... </a:t>
            </a:r>
            <a:br>
              <a:rPr sz="1600"/>
            </a:br>
            <a:r>
              <a:rPr b="0" lang="tr-TR" sz="1600" spc="-1" strike="noStrike">
                <a:solidFill>
                  <a:srgbClr val="000000"/>
                </a:solidFill>
                <a:latin typeface="Calibri"/>
              </a:rPr>
              <a:t>Medeniyyet denilen kahbe, hakikat, yüzsüz. </a:t>
            </a:r>
            <a:br>
              <a:rPr sz="1600"/>
            </a:br>
            <a:r>
              <a:rPr b="0" lang="tr-TR" sz="1600" spc="-1" strike="noStrike">
                <a:solidFill>
                  <a:srgbClr val="000000"/>
                </a:solidFill>
                <a:latin typeface="Calibri"/>
              </a:rPr>
              <a:t>Sonra mel'undaki tahribe müvekkel esbâb, </a:t>
            </a:r>
            <a:br>
              <a:rPr sz="1600"/>
            </a:br>
            <a:r>
              <a:rPr b="0" lang="tr-TR" sz="1600" spc="-1" strike="noStrike">
                <a:solidFill>
                  <a:srgbClr val="000000"/>
                </a:solidFill>
                <a:latin typeface="Calibri"/>
              </a:rPr>
              <a:t>Öyle müdhiş ki: Eder her biri bir mülkü harâb.</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Mehmet Akif Ersoy</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Calibri"/>
              </a:rPr>
              <a:t>	</a:t>
            </a:r>
            <a:r>
              <a:rPr b="0" lang="tr-TR" sz="1500" spc="-1" strike="noStrike">
                <a:solidFill>
                  <a:srgbClr val="ff0000"/>
                </a:solidFill>
                <a:latin typeface="Calibri"/>
              </a:rPr>
              <a:t>Nesnel (Objektif) Anlatım </a:t>
            </a:r>
            <a:br>
              <a:rPr sz="1500"/>
            </a:br>
            <a:r>
              <a:rPr b="0" lang="tr-TR" sz="1500" spc="-1" strike="noStrike">
                <a:solidFill>
                  <a:srgbClr val="000000"/>
                </a:solidFill>
                <a:latin typeface="Calibri"/>
              </a:rPr>
              <a:t> </a:t>
            </a:r>
            <a:br>
              <a:rPr sz="1500"/>
            </a:br>
            <a:r>
              <a:rPr b="0" lang="tr-TR" sz="1500" spc="-1" strike="noStrike">
                <a:solidFill>
                  <a:srgbClr val="000000"/>
                </a:solidFill>
                <a:latin typeface="Calibri"/>
              </a:rPr>
              <a:t>	</a:t>
            </a:r>
            <a:r>
              <a:rPr b="0" lang="tr-TR" sz="1500" spc="-1" strike="noStrike">
                <a:solidFill>
                  <a:srgbClr val="000000"/>
                </a:solidFill>
                <a:latin typeface="Calibri"/>
              </a:rPr>
              <a:t>Gerçekliği kanıtlanabilir, bilimsel, ölçülebilir, herkese göre aynı olan; göreceli olmayan; kişilerin duygularına dayanmayan anlatım nesnel anlatımdır. </a:t>
            </a:r>
            <a:br>
              <a:rPr sz="1500"/>
            </a:br>
            <a:r>
              <a:rPr b="0" lang="tr-TR" sz="1500" spc="-1" strike="noStrike">
                <a:solidFill>
                  <a:srgbClr val="000000"/>
                </a:solidFill>
                <a:latin typeface="Calibri"/>
              </a:rPr>
              <a:t>	</a:t>
            </a:r>
            <a:r>
              <a:rPr b="0" lang="tr-TR" sz="1500" spc="-1" strike="noStrike">
                <a:solidFill>
                  <a:srgbClr val="000000"/>
                </a:solidFill>
                <a:latin typeface="Calibri"/>
              </a:rPr>
              <a:t>Nesnel anlatımda ölçülebilir, kanıtlanabilir ve yorumlara meydan vermeyen bir anlatım vardır. Nesnel anlatımda "bence" ve "bana göre"ye yer yokt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Yahya Kemal 20. yüzyılda yaşamış bir edebiyatçıdır.</a:t>
            </a:r>
            <a:br>
              <a:rPr sz="1500"/>
            </a:br>
            <a:r>
              <a:rPr b="0" lang="tr-TR" sz="1500" spc="-1" strike="noStrike">
                <a:solidFill>
                  <a:srgbClr val="000000"/>
                </a:solidFill>
                <a:latin typeface="Calibri"/>
              </a:rPr>
              <a:t>	</a:t>
            </a:r>
            <a:r>
              <a:rPr b="0" lang="tr-TR" sz="1500" spc="-1" strike="noStrike">
                <a:solidFill>
                  <a:srgbClr val="000000"/>
                </a:solidFill>
                <a:latin typeface="Calibri"/>
              </a:rPr>
              <a:t>İstanbul Türkiye'nin en büyük şehrid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Nesnel anlatım sorularında her zaman “aşağıdakilerin hangisinde nesnellik vardır?” gibi soru kökleri olmayabilir. Kimi zaman da “aşağıdakilerden hangisi söyleyenin kişisel düşüncelerini içermemektedir?” veya “yukarıdaki cümlelerin hangilerinde düşünce eksiksiz ve belirli bir kesinlikle anlatılmıştır?” gibi sorular nesnelliğe aitt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RNEK:</a:t>
            </a:r>
            <a:br>
              <a:rPr sz="2200"/>
            </a:br>
            <a:r>
              <a:rPr b="0" lang="tr-TR" sz="2200" spc="-1" strike="noStrike">
                <a:solidFill>
                  <a:srgbClr val="000000"/>
                </a:solidFill>
                <a:latin typeface="Calibri"/>
              </a:rPr>
              <a:t> </a:t>
            </a:r>
            <a:br>
              <a:rPr sz="2200"/>
            </a:br>
            <a:r>
              <a:rPr b="0" lang="tr-TR" sz="2200" spc="-1" strike="noStrike">
                <a:solidFill>
                  <a:srgbClr val="000000"/>
                </a:solidFill>
                <a:latin typeface="Calibri"/>
              </a:rPr>
              <a:t>Kitaptaki ilk öykünün konusu köy yaşam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bir çiftlikte geçi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 bu romanından sonra peş peşe altı oyun yazdı.</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ın sonunda kahramanların hiçbiri umduğunu bulamı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u, sanatçının en son çıkan şiir kitab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Öyküdeki kişilerin dördü kadın, üçü erkekti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da anlatılanlar Kurtuluş Savaşı yıllarında geçiyo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üç bin kişilik bir kasabada, bir çiftlikte geçiyo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znel (İzafî, sübjektif, göreli, göreceli) Anlatım</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Öznel ifadeler, doğruluğu ve yanlışlığı kişilere göre değişebilen, kanıtlanamayan, tartışmalı, öznel, ölçülemeyen, duygulara bağlı, yorumlanabilir, bilimsel olmayan yargılardır. </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de izlenimler, yorumlar, duygular, beğeniler ve kişisel görüşler anlatılır.</a:t>
            </a:r>
            <a:br>
              <a:rPr sz="2200"/>
            </a:br>
            <a:br>
              <a:rPr sz="2200"/>
            </a:br>
            <a:r>
              <a:rPr b="0" lang="tr-TR" sz="2200" spc="-1" strike="noStrike">
                <a:solidFill>
                  <a:srgbClr val="ff0000"/>
                </a:solidFill>
                <a:latin typeface="Calibri"/>
              </a:rPr>
              <a:t>Yahya Kemal, 20. yüzyılın en başarılı şairidir.</a:t>
            </a:r>
            <a:br>
              <a:rPr sz="2200"/>
            </a:br>
            <a:r>
              <a:rPr b="0" lang="tr-TR" sz="2200" spc="-1" strike="noStrike">
                <a:solidFill>
                  <a:srgbClr val="ff0000"/>
                </a:solidFill>
                <a:latin typeface="Calibri"/>
              </a:rPr>
              <a:t>İstanbul Türkiye'nin en güzel şehridir.</a:t>
            </a:r>
            <a:br>
              <a:rPr sz="2200"/>
            </a:br>
            <a:r>
              <a:rPr b="0" lang="tr-TR" sz="2200" spc="-1" strike="noStrike">
                <a:solidFill>
                  <a:srgbClr val="ff0000"/>
                </a:solidFill>
                <a:latin typeface="Calibri"/>
              </a:rPr>
              <a:t>Hikâyeciliğimizdeki en başarılı dönem o yıllardı.</a:t>
            </a:r>
            <a:br>
              <a:rPr sz="2200"/>
            </a:br>
            <a:r>
              <a:rPr b="0" lang="tr-TR" sz="2800" spc="-1" strike="noStrike">
                <a:solidFill>
                  <a:srgbClr val="000000"/>
                </a:solidFill>
                <a:latin typeface="Calibri"/>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0" y="-360"/>
            <a:ext cx="8215200" cy="6676920"/>
          </a:xfrm>
          <a:prstGeom prst="rect">
            <a:avLst/>
          </a:prstGeom>
          <a:noFill/>
          <a:ln w="0">
            <a:noFill/>
          </a:ln>
        </p:spPr>
        <p: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Öznel cümleleri varsayım ve olasılık; yorumlama, yakınma, eleştiri ya da beğeni içeren cümleler gibi gruplara ayırmak mümkündür.</a:t>
            </a:r>
            <a:br>
              <a:rPr sz="1500"/>
            </a:br>
            <a:br>
              <a:rPr sz="1500"/>
            </a:br>
            <a:r>
              <a:rPr b="0" lang="tr-TR" sz="1500" spc="-1" strike="noStrike">
                <a:solidFill>
                  <a:srgbClr val="000000"/>
                </a:solidFill>
                <a:latin typeface="Calibri"/>
              </a:rPr>
              <a:t>	</a:t>
            </a:r>
            <a:r>
              <a:rPr b="1" lang="tr-TR" sz="1500" spc="-1" strike="noStrike">
                <a:solidFill>
                  <a:srgbClr val="000000"/>
                </a:solidFill>
                <a:latin typeface="Calibri"/>
              </a:rPr>
              <a:t>a. Varsayım </a:t>
            </a:r>
            <a:br>
              <a:rPr sz="1500"/>
            </a:br>
            <a:r>
              <a:rPr b="0" lang="tr-TR" sz="1500" spc="-1" strike="noStrike">
                <a:solidFill>
                  <a:srgbClr val="000000"/>
                </a:solidFill>
                <a:latin typeface="Calibri"/>
              </a:rPr>
              <a:t>	</a:t>
            </a:r>
            <a:r>
              <a:rPr b="0" lang="tr-TR" sz="1500" spc="-1" strike="noStrike">
                <a:solidFill>
                  <a:srgbClr val="000000"/>
                </a:solidFill>
                <a:latin typeface="Calibri"/>
              </a:rPr>
              <a:t>Varsayıma bir olayın gerçek olup olmadığını bilmeden gerçek saymaya varsayım denir .Kimi cümleler gerçekte olmadığı hâlde varmış gibi kabul edilen durumları anlatabilir. Bu tür cümlelere varsayım cümleleri denir. Varsayım anlamı “diyelim (ki), farz edelim (ki), tut ki, tutalım (ki), kabul edelim (ki)” gibi sözcüklerle sağlanır.</a:t>
            </a:r>
            <a:br>
              <a:rPr sz="1500"/>
            </a:br>
            <a:r>
              <a:rPr b="0" lang="tr-TR" sz="1500" spc="-1" strike="noStrike">
                <a:solidFill>
                  <a:srgbClr val="ff0000"/>
                </a:solidFill>
                <a:latin typeface="Calibri"/>
              </a:rPr>
              <a:t>Diyelim ki cüzdanını kaybettin..</a:t>
            </a:r>
            <a:br>
              <a:rPr sz="1500"/>
            </a:br>
            <a:r>
              <a:rPr b="0" lang="tr-TR" sz="1500" spc="-1" strike="noStrike">
                <a:solidFill>
                  <a:srgbClr val="ff0000"/>
                </a:solidFill>
                <a:latin typeface="Calibri"/>
              </a:rPr>
              <a:t>Farz edelim okulu bıraktın, ne yapacaksın?</a:t>
            </a:r>
            <a:br>
              <a:rPr sz="1500"/>
            </a:br>
            <a:r>
              <a:rPr b="0" lang="tr-TR" sz="1500" spc="-1" strike="noStrike">
                <a:solidFill>
                  <a:srgbClr val="ff0000"/>
                </a:solidFill>
                <a:latin typeface="Calibri"/>
              </a:rPr>
              <a:t>Böyle olduğunu kabul edelim, gururuna yedirebilecek misin?</a:t>
            </a:r>
            <a:br>
              <a:rPr sz="1500"/>
            </a:br>
            <a:r>
              <a:rPr b="0" lang="tr-TR" sz="1500" spc="-1" strike="noStrike">
                <a:solidFill>
                  <a:srgbClr val="000000"/>
                </a:solidFill>
                <a:latin typeface="Calibri"/>
              </a:rPr>
              <a:t>	</a:t>
            </a:r>
            <a:r>
              <a:rPr b="1" lang="tr-TR" sz="1500" spc="-1" strike="noStrike">
                <a:solidFill>
                  <a:srgbClr val="000000"/>
                </a:solidFill>
                <a:latin typeface="Calibri"/>
              </a:rPr>
              <a:t>b. Yorumlama</a:t>
            </a:r>
            <a:br>
              <a:rPr sz="1500"/>
            </a:br>
            <a:r>
              <a:rPr b="0" lang="tr-TR" sz="1500" spc="-1" strike="noStrike">
                <a:solidFill>
                  <a:srgbClr val="000000"/>
                </a:solidFill>
                <a:latin typeface="Calibri"/>
              </a:rPr>
              <a:t>	</a:t>
            </a:r>
            <a:r>
              <a:rPr b="0" lang="tr-TR" sz="1500" spc="-1" strike="noStrike">
                <a:solidFill>
                  <a:srgbClr val="000000"/>
                </a:solidFill>
                <a:latin typeface="Calibri"/>
              </a:rPr>
              <a:t>Bu tür cümlelerde gizli veya hayali şeylerden anlam çıkarma söz konusud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f0000"/>
                </a:solidFill>
                <a:latin typeface="Calibri"/>
              </a:rPr>
              <a:t>Son günlerde hiç konuşmuyor, sanki bana gücenmiş.</a:t>
            </a:r>
            <a:br>
              <a:rPr sz="1500"/>
            </a:br>
            <a:r>
              <a:rPr b="0" lang="tr-TR" sz="1500" spc="-1" strike="noStrike">
                <a:solidFill>
                  <a:srgbClr val="ff0000"/>
                </a:solidFill>
                <a:latin typeface="Calibri"/>
              </a:rPr>
              <a:t>Kimse beni dinlemiyor, sanki herkes bana cephe almış.</a:t>
            </a:r>
            <a:br>
              <a:rPr sz="1100"/>
            </a:b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c. Yakınma</a:t>
            </a: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 insanı pişman edecek şekilde sonuçlanmış olaylardan şikayeti dile getirir. "keşke, bari, hiç değilse, hiç olmazsa" gibi sözcüklerle ve "ki" bağlacıyla kurulan cümlelerdir.</a:t>
            </a:r>
            <a:br>
              <a:rPr sz="2200"/>
            </a:br>
            <a:r>
              <a:rPr b="0" lang="tr-TR" sz="2200" spc="-1" strike="noStrike">
                <a:solidFill>
                  <a:srgbClr val="ff0000"/>
                </a:solidFill>
                <a:latin typeface="Calibri"/>
              </a:rPr>
              <a:t>Keşke o gün evden çıkmasaydık.</a:t>
            </a:r>
            <a:br>
              <a:rPr sz="2200"/>
            </a:br>
            <a:r>
              <a:rPr b="0" lang="tr-TR" sz="2200" spc="-1" strike="noStrike">
                <a:solidFill>
                  <a:srgbClr val="ff0000"/>
                </a:solidFill>
                <a:latin typeface="Calibri"/>
              </a:rPr>
              <a:t>Hiç olmazsa son sınavdan iyi not alsaydın.</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tr-TR" sz="2200" spc="-1" strike="noStrike">
                <a:solidFill>
                  <a:srgbClr val="000000"/>
                </a:solidFill>
                <a:latin typeface="Calibri"/>
              </a:rPr>
              <a:t>d. Şaşırma</a:t>
            </a:r>
            <a:br>
              <a:rPr sz="2200"/>
            </a:br>
            <a:r>
              <a:rPr b="0" lang="tr-TR" sz="2200" spc="-1" strike="noStrike">
                <a:solidFill>
                  <a:srgbClr val="000000"/>
                </a:solidFill>
                <a:latin typeface="Calibri"/>
              </a:rPr>
              <a:t>	</a:t>
            </a:r>
            <a:r>
              <a:rPr b="0" lang="tr-TR" sz="2200" spc="-1" strike="noStrike">
                <a:solidFill>
                  <a:srgbClr val="000000"/>
                </a:solidFill>
                <a:latin typeface="Calibri"/>
              </a:rPr>
              <a:t>Şaşırma anlamı soru ekiyle de sağlanabilir:</a:t>
            </a:r>
            <a:br>
              <a:rPr sz="2200"/>
            </a:br>
            <a:r>
              <a:rPr b="0" lang="tr-TR" sz="2200" spc="-1" strike="noStrike">
                <a:solidFill>
                  <a:srgbClr val="ff0000"/>
                </a:solidFill>
                <a:latin typeface="Calibri"/>
              </a:rPr>
              <a:t>Biraz sonra bir batağın içine dalmayayım mı?</a:t>
            </a:r>
            <a:br>
              <a:rPr sz="2200"/>
            </a:br>
            <a:r>
              <a:rPr b="0" lang="tr-TR" sz="2200" spc="-1" strike="noStrike">
                <a:solidFill>
                  <a:srgbClr val="ff0000"/>
                </a:solidFill>
                <a:latin typeface="Calibri"/>
              </a:rPr>
              <a:t>Bizim Ali orada da karşımıza çıkmasın mı?</a:t>
            </a: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e. Tahmin</a:t>
            </a:r>
            <a:br>
              <a:rPr sz="2200"/>
            </a:br>
            <a:r>
              <a:rPr b="0" lang="tr-TR" sz="2200" spc="-1" strike="noStrike">
                <a:solidFill>
                  <a:srgbClr val="000000"/>
                </a:solidFill>
                <a:latin typeface="Calibri"/>
              </a:rPr>
              <a:t>	</a:t>
            </a:r>
            <a:r>
              <a:rPr b="0" lang="tr-TR" sz="2200" spc="-1" strike="noStrike">
                <a:solidFill>
                  <a:srgbClr val="000000"/>
                </a:solidFill>
                <a:latin typeface="Calibri"/>
              </a:rPr>
              <a:t>Bir kişinin sonucunu bilmediği bir olay ya da durum ile ilgili nasıl sonuçlanacağına dair kendi görüşünü bildirmeye tahmin denir.</a:t>
            </a:r>
            <a:br>
              <a:rPr sz="2200"/>
            </a:br>
            <a:br>
              <a:rPr sz="2200"/>
            </a:br>
            <a:r>
              <a:rPr b="0" lang="tr-TR" sz="2200" spc="-1" strike="noStrike">
                <a:solidFill>
                  <a:srgbClr val="ff0000"/>
                </a:solidFill>
                <a:latin typeface="Calibri"/>
              </a:rPr>
              <a:t>Bizim oralara bahar gelmiştir artık.</a:t>
            </a:r>
            <a:br>
              <a:rPr sz="2200"/>
            </a:br>
            <a:br>
              <a:rPr sz="2200"/>
            </a:br>
            <a:r>
              <a:rPr b="0" lang="tr-TR" sz="2200" spc="-1" strike="noStrike">
                <a:solidFill>
                  <a:srgbClr val="000000"/>
                </a:solidFill>
                <a:latin typeface="Calibri"/>
              </a:rPr>
              <a:t>	</a:t>
            </a:r>
            <a:r>
              <a:rPr b="1" lang="tr-TR" sz="2200" spc="-1" strike="noStrike">
                <a:solidFill>
                  <a:srgbClr val="000000"/>
                </a:solidFill>
                <a:latin typeface="Calibri"/>
              </a:rPr>
              <a:t>f. Öneri</a:t>
            </a:r>
            <a:br>
              <a:rPr sz="2200"/>
            </a:br>
            <a:r>
              <a:rPr b="0" lang="tr-TR" sz="2200" spc="-1" strike="noStrike">
                <a:solidFill>
                  <a:srgbClr val="000000"/>
                </a:solidFill>
                <a:latin typeface="Calibri"/>
              </a:rPr>
              <a:t>	</a:t>
            </a:r>
            <a:r>
              <a:rPr b="0" lang="tr-TR" sz="2200" spc="-1" strike="noStrike">
                <a:solidFill>
                  <a:srgbClr val="000000"/>
                </a:solidFill>
                <a:latin typeface="Calibri"/>
              </a:rPr>
              <a:t>Herhangi bir şeyde görülen eksikliğin nasıl giderilebileceğini bildiren cümlelere öneri denir.</a:t>
            </a:r>
            <a:br>
              <a:rPr sz="2200"/>
            </a:br>
            <a:br>
              <a:rPr sz="2200"/>
            </a:br>
            <a:r>
              <a:rPr b="0" lang="tr-TR" sz="2200" spc="-1" strike="noStrike">
                <a:solidFill>
                  <a:srgbClr val="ff0000"/>
                </a:solidFill>
                <a:latin typeface="Calibri"/>
              </a:rPr>
              <a:t>Kitabın sonuna yararlanılan kaynaklar eklenirse, okuyucuya daha yararlı olu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g. Yorum</a:t>
            </a:r>
            <a:br>
              <a:rPr sz="2600"/>
            </a:br>
            <a:r>
              <a:rPr b="0" lang="tr-TR" sz="2600" spc="-1" strike="noStrike">
                <a:solidFill>
                  <a:srgbClr val="000000"/>
                </a:solidFill>
                <a:latin typeface="Calibri"/>
              </a:rPr>
              <a:t>	</a:t>
            </a:r>
            <a:r>
              <a:rPr b="0" lang="tr-TR" sz="2600" spc="-1" strike="noStrike">
                <a:solidFill>
                  <a:srgbClr val="000000"/>
                </a:solidFill>
                <a:latin typeface="Calibri"/>
              </a:rPr>
              <a:t>Söyleyenin bir konu ile ilgili düşüncelerine, sözlerine kendi duygu ve görüşlerini kattığı anlatıma yoruma dayalı anlatım denir. Yorumlar kişinin kendi beğenisini, kendi görüşünü anlattığından özneldir, kişiye özeldir.</a:t>
            </a:r>
            <a:br>
              <a:rPr sz="2600"/>
            </a:br>
            <a:br>
              <a:rPr sz="2600"/>
            </a:br>
            <a:r>
              <a:rPr b="0" lang="tr-TR" sz="2600" spc="-1" strike="noStrike">
                <a:solidFill>
                  <a:srgbClr val="000000"/>
                </a:solidFill>
                <a:latin typeface="Calibri"/>
              </a:rPr>
              <a:t>	</a:t>
            </a:r>
            <a:r>
              <a:rPr b="0" lang="tr-TR" sz="2600" spc="-1" strike="noStrike">
                <a:solidFill>
                  <a:srgbClr val="ff0000"/>
                </a:solidFill>
                <a:latin typeface="Calibri"/>
              </a:rPr>
              <a:t>Evimin balkonundan bakınca Boğaz'ın muhteşem güzelliği beni mest ediyor. </a:t>
            </a:r>
            <a:br>
              <a:rPr sz="2600"/>
            </a:br>
            <a:r>
              <a:rPr b="0" lang="tr-TR" sz="2600" spc="-1" strike="noStrike">
                <a:solidFill>
                  <a:srgbClr val="ff0000"/>
                </a:solidFill>
                <a:latin typeface="Calibri"/>
              </a:rPr>
              <a:t> </a:t>
            </a:r>
            <a:r>
              <a:rPr b="0" lang="tr-TR" sz="2600" spc="-1" strike="noStrike">
                <a:solidFill>
                  <a:srgbClr val="ff0000"/>
                </a:solidFill>
                <a:latin typeface="Calibri"/>
              </a:rPr>
              <a:t>	</a:t>
            </a:r>
            <a:r>
              <a:rPr b="0" lang="tr-TR" sz="2600" spc="-1" strike="noStrike">
                <a:solidFill>
                  <a:srgbClr val="ff0000"/>
                </a:solidFill>
                <a:latin typeface="Calibri"/>
              </a:rPr>
              <a:t>Sanatçı, kişisel konuların yanında toplumsal konulara da yer vermelidir.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alibri"/>
              </a:rPr>
              <a:t>	</a:t>
            </a:r>
            <a:r>
              <a:rPr b="0" lang="tr-TR" sz="2600" spc="-1" strike="noStrike">
                <a:solidFill>
                  <a:srgbClr val="ff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2040" y="-360"/>
            <a:ext cx="8839080" cy="66769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çıklama (Açılayıc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rtışma</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anıtlama (Delil ve İspat Yoluyla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Hikâye Etme (Öykü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svir Etme (Tasvir Yoluyla Anlatım)(Betim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onuşmal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lü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anzum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izah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estansı (Epik)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Nesnel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nel anlatım</a:t>
            </a:r>
            <a:endParaRPr b="0" lang="en-US" sz="1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2040" y="685800"/>
            <a:ext cx="79498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YNAKÇA:</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SARAYLI İsmail (2007),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TAŞ Şerif, GÜNDÜZ Osman (2005), Yazılı ve Sözlü Anlatım Kompozisyon Sanat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DİLEKCAN Fahri, İNAL Polat (2010), Dil ve Anlatım, Ankara: Esen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MİROSMANOĞLU Ali(2006), Üniversiteler İçin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GÜLENSOY Tuncer, Türkçe El Kitab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RASOY Yakup, vd. (2001), Üniversiteler İçin Türk Dili ve Kompozisyon Bilgileri, Konya: Selçuk Üniversitesi Yaşatma ve Geliştirme Vakfı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2560" y="285480"/>
            <a:ext cx="8072280" cy="639108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r>
              <a:rPr b="1" lang="tr-TR" sz="2200" spc="-1" strike="noStrike">
                <a:solidFill>
                  <a:srgbClr val="ff0000"/>
                </a:solidFill>
                <a:latin typeface="Calibri"/>
              </a:rPr>
              <a:t>Açıklama (Açıklayıcı Anlatım)</a:t>
            </a:r>
            <a:br>
              <a:rPr sz="2200"/>
            </a:br>
            <a:r>
              <a:rPr b="0" lang="tr-TR" sz="2200" spc="-1" strike="noStrike">
                <a:solidFill>
                  <a:srgbClr val="000000"/>
                </a:solidFill>
                <a:latin typeface="Calibri"/>
              </a:rPr>
              <a:t>	</a:t>
            </a:r>
            <a:r>
              <a:rPr b="0" lang="tr-TR" sz="2200" spc="-1" strike="noStrike">
                <a:solidFill>
                  <a:srgbClr val="000000"/>
                </a:solidFill>
                <a:latin typeface="Calibri"/>
              </a:rPr>
              <a:t>Açıklama, herhangi bir şey hakkında okuyucuya ayrıntılı bilgi vermek, bir şeyi öğretmek gerektiği zaman kullanılan anlatım biçimidir. Öğretici nitelik taşıyan düşünce yazılarında daha çok bu anlatım biçimi kullanılır. Yazarın amacı bilgiyi en kısa yoldan okuyucuya anlatmak olduğundan, yazar sanatlı söyleyişlere, imalı sözlere pek yer vermez. Açık, anlaşılır bir dil kullanır. Soyutluktan, kişisellikten kaçınır. Tanımlarla, örneklerle konunun en iyi biçimde anlaşılmasını sağlar.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Açıklama veya açıklayıcı anlatıma makale, deneme, fıkra, eleştiri, biyografi,otobiyografi, gezi yazısı gibi öğretici metinlerde başvurulu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eknik, bilimin kristalize olmuş halidir. Yani bilimin araç-gereç ve makineye dönüşmüş halidir. İnsanoğlu onun sayesinde ilkçağların karanlığından sıyrılmıştır. Kendine daha çok zaman ayırıp kültürel yönden olgunlaşmıştır. Birbirini sevmeyi, barış içinde bir arada yasamayı öğrenmiş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Divan Edebiyatı, Arap ve Fars edebiyatının Türk Edebiyatındaki uzantısıdır. Hem içerik hem de biçim yönünden tam bir taklittir Divan Edebiyatı. İşlenen konulara doğru düzgün bir konu eklenmemiştir. Biçim için de geçerlidir bu. Divan şairi, bu açmazdan kurtulmak için söz oyunlarına başvurmuştur. Bu nedenle Divan Edebiyatı bir marifet gösterme edebiyat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8920" y="620640"/>
            <a:ext cx="81788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rtışma</a:t>
            </a:r>
            <a:br>
              <a:rPr sz="2400"/>
            </a:br>
            <a:r>
              <a:rPr b="0" lang="tr-TR" sz="2400" spc="-1" strike="noStrike">
                <a:solidFill>
                  <a:srgbClr val="000000"/>
                </a:solidFill>
                <a:latin typeface="Calibri"/>
              </a:rPr>
              <a:t>	</a:t>
            </a:r>
            <a:r>
              <a:rPr b="0" lang="tr-TR" sz="2400" spc="-1" strike="noStrike">
                <a:solidFill>
                  <a:srgbClr val="000000"/>
                </a:solidFill>
                <a:latin typeface="Calibri"/>
              </a:rPr>
              <a:t> Bu anlatım biçiminde öğretmeyle birlikte bir düşünce veya inanışı değiştirme veya çürütme amacı vardır. Bu tür anlatımda ya bir öneri getirilip ispatlanmak istenir veya karşı bir düşünce ele alınıp çürütülmeye çalışılır. Açık oturum, panel, forum, münazara, makale gibi türlerde tartışma biçimi daha çok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	</a:t>
            </a:r>
            <a:r>
              <a:rPr b="1" i="1" lang="tr-TR" sz="2400" spc="-1" strike="noStrike">
                <a:solidFill>
                  <a:srgbClr val="ff0000"/>
                </a:solidFill>
                <a:latin typeface="Calibri"/>
              </a:rPr>
              <a:t>ÖRNEK: </a:t>
            </a:r>
            <a:r>
              <a:rPr b="1" i="1" lang="tr-TR" sz="2400" spc="-1" strike="noStrike">
                <a:solidFill>
                  <a:srgbClr val="ff0000"/>
                </a:solidFill>
                <a:latin typeface="Comic Sans MS"/>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ürkçenin kurallarına uygun olarak dikkatle türetilen güzel, yeni terimlere Türkçe yerine Öztürkçe diyerek bir ayrım yapmak, hele hele bu terimlere uydurmaca demek büyük bir hatadır. Kaldı ki diğer Türk budunları [halkları, toplulukları] ile dil birliğimizi bozuyor diye, Türkçe terimlere karşı çıkanlar herhalde çoğu kez yanılmışlardır. Çünkü o ‘yeni’ terimlerin bir çoğuna ya da benzerine Kazak, Özbek gibi Türk lehçelerinde rastladım.” (O. Sinanoğlu, Bye Bye Türkç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anıtlama (Delil ve İspat Yoluyla Anlatım)</a:t>
            </a:r>
            <a:br>
              <a:rPr sz="2400"/>
            </a:br>
            <a:r>
              <a:rPr b="0" lang="tr-TR" sz="2400" spc="-1" strike="noStrike">
                <a:solidFill>
                  <a:srgbClr val="000000"/>
                </a:solidFill>
                <a:latin typeface="Calibri"/>
              </a:rPr>
              <a:t>	</a:t>
            </a:r>
            <a:r>
              <a:rPr b="0" lang="tr-TR" sz="2400" spc="-1" strike="noStrike">
                <a:solidFill>
                  <a:srgbClr val="000000"/>
                </a:solidFill>
                <a:latin typeface="Calibri"/>
              </a:rPr>
              <a:t>Ortaya atılan herhangi bir konu, düşünce, görüş veya yargının okuyucu veya dinleyiciye kanıtlama (ispatlama) yolu ile anlatılması için uygulanan bir anlatım türüdür. Genellikle makale, eleştiri, röportaj gibi yazılı; konferans, açık oturum, münazara gibi sözlü anlatımlarda kullanıl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Hikâye Etme (Öyküleyici Anlatım)</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1900" spc="-1" strike="noStrike">
                <a:solidFill>
                  <a:srgbClr val="000000"/>
                </a:solidFill>
                <a:latin typeface="Calibri"/>
              </a:rPr>
              <a:t>Öykü, başlı başına bir olayın anlatılmasıdır. Bu tarz anlatımda amaç, okuru düşündürmekten çok, olay vasıtasıyla  heyecanlandırmaktır. Bu tarz anlatım biçimleri heyecan uyandırmaları bakımından ilgi çekerle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1900" spc="-1" strike="noStrike">
                <a:solidFill>
                  <a:srgbClr val="000000"/>
                </a:solidFill>
                <a:latin typeface="Calibri"/>
              </a:rPr>
              <a:t>Bu anlatım biçiminde okuyucu eylemin içine çekilir, serüvene ortak edilir. Birbiriyle bağlantısı koparılmadan olayın oluşumunda zamanda geriye dönüşler, ileriye sıçramalar yapılarak olaya duygusal bir ton katılır.Her eylemin belirli bir zaman ve mekânda bir başlangıcı, gelişmesi ve sonu vardır. Öyküleyici anlatımda bu sıra dikkate alını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Öyküleyici anlatım biçiminden her tür yazıda yararlanılabilir. Bilgilendirme amacıyla veya açıklama ve tartışmalarda anlatılanları desteklemek için veya kanıt göstermek için araya fıkra, kısa bir anı, kurgulanmış bir olay sokuşturulabilir. Bu tarz öyküler yazıyı canlı ve etkili kılar ve metin içinde yardımcı unsur olarak kullanılır.  </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26:01Z</dcterms:created>
  <dc:creator>tuba</dc:creator>
  <dc:description/>
  <dc:language>en-US</dc:language>
  <cp:lastModifiedBy>pc</cp:lastModifiedBy>
  <dcterms:modified xsi:type="dcterms:W3CDTF">2018-04-23T19:24:03Z</dcterms:modified>
  <cp:revision>55</cp:revision>
  <dc:subject/>
  <dc:title>6. HAFTA-KOMPOZİSYONDA ANLATIM TÜRLERİ</dc:title>
</cp:coreProperties>
</file>